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9C6-E201-4E70-8342-7201B220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A77-7520-4740-AAC9-E3AD9E38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653-AD7E-4725-B8AA-2AD4D70C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A4A-10CC-4D44-86BA-B5821390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10B-66D2-4288-B8C5-A16E9680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689-C1D7-48AF-BF9B-1179EF2A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0AD-E7FF-4583-A1F0-64763F0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BE6-923F-44B6-BCC7-70CF6AB2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237-3E61-48FC-8E14-F2701317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B85-12D4-4281-82A9-3713DA83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C57-54B1-4FE9-BED2-9DD65210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905-BFBD-4CCB-A7A2-5558C081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2CD6-8F5A-412C-8D13-64EAD07263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EED  VALLEY  TOURISTS         VALLEY  TOURISTS                       VALLEY  TOURISTS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657600" y="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.  16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weed Valley Tourists 2.JPG"/>
          <p:cNvPicPr/>
          <p:nvPr/>
        </p:nvPicPr>
        <p:blipFill>
          <a:blip r:embed="rId1"/>
          <a:stretch/>
        </p:blipFill>
        <p:spPr>
          <a:xfrm>
            <a:off x="1639800" y="115920"/>
            <a:ext cx="1408320" cy="13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weed Valley Tourists 1.jpg"/>
          <p:cNvPicPr/>
          <p:nvPr/>
        </p:nvPicPr>
        <p:blipFill>
          <a:blip r:embed="rId2"/>
          <a:stretch/>
        </p:blipFill>
        <p:spPr>
          <a:xfrm>
            <a:off x="344520" y="446040"/>
            <a:ext cx="107964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weed Valley Tourists 3.JPG"/>
          <p:cNvPicPr/>
          <p:nvPr/>
        </p:nvPicPr>
        <p:blipFill>
          <a:blip r:embed="rId3"/>
          <a:stretch/>
        </p:blipFill>
        <p:spPr>
          <a:xfrm>
            <a:off x="3440160" y="476280"/>
            <a:ext cx="1042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9:29:27Z</dcterms:created>
  <dc:creator>JY</dc:creator>
  <dc:description/>
  <dc:language>en-US</dc:language>
  <cp:lastModifiedBy>John</cp:lastModifiedBy>
  <dcterms:modified xsi:type="dcterms:W3CDTF">2011-12-20T21:56:55Z</dcterms:modified>
  <cp:revision>9</cp:revision>
  <dc:subject/>
  <dc:title>Slide 1</dc:title>
</cp:coreProperties>
</file>